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03AE-1F79-4AB5-B001-00CF4A04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A701-5DD5-4277-BC05-A014D38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B9F5-5CE7-41E0-B964-5F3A5722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F3AD-0DB8-400E-B322-04531747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ED90-0B4B-450C-B3B6-3FDF3D34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17D1-3607-4AE1-B174-9E518CD1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0E7A-AB00-44EA-9A19-9F09837D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61A3-93E9-4567-8CE5-AB0631A5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0F28-D90D-4701-A161-8E699B55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B3F6-9B16-4D77-9366-74E9606C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8FF0-360B-4CCC-81A4-4FC5AEA7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4738-B5CE-4413-B5B6-A5AF95C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1878-8D08-47EF-A6F3-FF8EC7D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6834-AFAC-4FE3-96E2-BA7D1AE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229-F003-4943-BFB3-A09E6954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F12B-7290-4C65-A975-6426F42C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4144-1181-4D3F-B7B0-F585FFF9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1066-A171-4096-B235-8941632F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F509-B3EA-41BE-8C2E-D1BC4142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365D-BBBB-414F-BA51-DE5384B7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0901-E86D-42AC-B606-AC0C9D5E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E973-B05E-416E-81AF-B2C03FD7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F79A-383F-4E0E-87CF-97294B27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5D60-3113-4520-90B6-1EACC2B8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07BB-B603-4CD5-83BF-37B91890AD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05FE-A300-4D49-A370-66600887EF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333360"/>
            <a:ext cx="835344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IOGRAF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“La identidad y la alteridad en las formas poéticas arábigoandalusas: jaryas y , muwashah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humada Peña, Haydée. “De amor y de dolor. Mujeres, sentimientos en las jarchas y abencerrajes”. En Cyber Humanitatis,  N°11, (Invierno 1999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Jessica Castro y Raquel Villalobos. “Poesía femenina hispanoárabe del siglo XII: imagen de un equívoco”. En  Cyber Humanitatis Nº 39 (Invierno 2006).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ra el módulo “Encuentros y desencuentros en los romances fronterizos y morisco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Andrade Daneri, Claudia. </a:t>
            </a: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El Abencerraje y los Romances, dos lecturas de la España del siglo XVI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. En Cyber Humanitatis, N°40, (Primavera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Martínez Iniesta, Bautista. “Crónica poética de la Reconquista de Granada y  antología del Romancero Fronterizo”. En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imes New Roman"/>
              </a:rPr>
              <a:t>Google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3:01:44Z</dcterms:created>
  <dc:creator> </dc:creator>
  <dc:description/>
  <dc:language>en-US</dc:language>
  <cp:lastModifiedBy> </cp:lastModifiedBy>
  <dcterms:modified xsi:type="dcterms:W3CDTF">2007-10-15T20:36:08Z</dcterms:modified>
  <cp:revision>4</cp:revision>
  <dc:subject/>
  <dc:title>Diapositiva 1</dc:title>
</cp:coreProperties>
</file>